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  <p:custShowLst>
    <p:custShow name="Chapter" id="0">
      <p:sldLst>
        <p:sld r:id="rId3"/>
        <p:sld r:id="rId4"/>
        <p:sld r:id="rId13"/>
        <p:sld r:id="rId14"/>
        <p:sld r:id="rId15"/>
      </p:sldLst>
    </p:custShow>
    <p:custShow name="ELI Sect 2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</p:sldLst>
    </p:custShow>
    <p:custShow name="ELI Sect 3" id="2">
      <p:sldLst>
        <p:sld r:id="rId4"/>
        <p:sld r:id="rId13"/>
        <p:sld r:id="rId14"/>
        <p:sld r:id="rId15"/>
      </p:sldLst>
    </p:custShow>
    <p:custShow name="ELI Sect 4" id="3">
      <p:sldLst>
        <p:sld r:id="rId13"/>
        <p:sld r:id="rId14"/>
        <p:sld r:id="rId15"/>
      </p:sldLst>
    </p:custShow>
    <p:custShow name="ELI STP" id="4">
      <p:sldLst>
        <p:sld r:id="rId7"/>
        <p:sld r:id="rId9"/>
      </p:sldLst>
    </p:custShow>
    <p:custShow name="Bellringers" id="5">
      <p:sldLst>
        <p:sld r:id="rId13"/>
      </p:sldLst>
    </p:custShow>
    <p:custShow name="Transparencies" id="6">
      <p:sldLst>
        <p:sld r:id="rId3"/>
      </p:sldLst>
    </p:custShow>
    <p:custShow name="Chapter menu" id="7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can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24280" y="614052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>
            <a:hlinkClick r:id="" action="ppaction://hlinkshowjump?jump=nextslide"/>
          </p:cNvPr>
          <p:cNvSpPr/>
          <p:nvPr/>
        </p:nvSpPr>
        <p:spPr>
          <a:xfrm>
            <a:off x="5867280" y="6154560"/>
            <a:ext cx="838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>
            <a:hlinkClick r:id="" action="ppaction://hlinkshowjump?jump=previousslide"/>
          </p:cNvPr>
          <p:cNvSpPr/>
          <p:nvPr/>
        </p:nvSpPr>
        <p:spPr>
          <a:xfrm>
            <a:off x="4711680" y="613404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>
            <a:hlinkClick r:id="" action="ppaction://hlinkshowjump?jump=nextslide"/>
          </p:cNvPr>
          <p:cNvSpPr/>
          <p:nvPr/>
        </p:nvSpPr>
        <p:spPr>
          <a:xfrm>
            <a:off x="5702400" y="613404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6769080" y="613404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>
            <a:hlinkClick r:id="" action="ppaction://hlinkshowjump?jump=endshow"/>
          </p:cNvPr>
          <p:cNvSpPr/>
          <p:nvPr/>
        </p:nvSpPr>
        <p:spPr>
          <a:xfrm>
            <a:off x="8026560" y="613404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1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lcanic Eruption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498680"/>
            <a:ext cx="8229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olcanic Eruptions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ypes of Eruptions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ypes of Volcanoes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lderas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dicting Volcanic Eruptions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ects of Volcanoes on Earth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ps in Action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Eruptio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ypes of Pyroclastic Materia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yroclastic materials form when magma breaks into fragments during an eruption because of the rapidly expanding gases in the magma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pyroclastic materials form when fragments of erupting lava cool and solidify as they fly through the ai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ientists classify pyroclastic materials according to the sizes of the partic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Eruptio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ypes of Pyroclastic Material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, continu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yroclastic particles that are less than 2 mm in diameter are called*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canic ash that is less than 0.25 mm in diameter is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pyroclastic particles that are less than 64 mm in diameter are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Eruptio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ypes of Pyroclastic Material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clots of lava may be thrown out of an erupting volcano while they are red-hot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y spin through the air, they cool and develop a round or spindle shape. These pyroclastic particles are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rgest pyroclastic materials, known 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Volcano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va and pyroclastic material that are ejected during volcanic eruptions build up around the vent and form volcanic con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is known as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ra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rater usually becomes wider as weathering and erosion break down the walls of the crater and allow loose materials to collapse into the vent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Volcano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1486080"/>
            <a:ext cx="8458200" cy="55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three types of volcano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5" name="Picture 8" descr="Untitled-4 copy"/>
          <p:cNvPicPr/>
          <p:nvPr/>
        </p:nvPicPr>
        <p:blipFill>
          <a:blip r:embed="rId1"/>
          <a:stretch/>
        </p:blipFill>
        <p:spPr>
          <a:xfrm>
            <a:off x="2324160" y="1981080"/>
            <a:ext cx="430524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aldera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lde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uptions that discharge large amounts of magma can also cause a caldera to form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deras may later fill with water to form lak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edicting Volcanic Eruption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arthquake Activit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f the most important warning signals of volcanic eruptions is changes in earthquake activity around the volcano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 increase in the strength and frequency of earthquakes may be a signal that an eruption is about to occu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atterns in Activit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an eruption, the upward movement of magma beneath the surface may cause the surface of the volcano to bulge outward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ing the eruption of a particular volcano also requires some knowledge of its previous eruption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fortunately, only a few of the active volcanoes in the world have been studied by scientists long enough to establish any activity pattern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edicting Volcanic Eruptio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32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ps in Ac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05080"/>
            <a:ext cx="769608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waiian-Empero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mount Chai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1"/>
          <a:stretch/>
        </p:blipFill>
        <p:spPr>
          <a:xfrm>
            <a:off x="2484360" y="1847880"/>
            <a:ext cx="417528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composition of magma affects volcanic eruptions and lava flow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ve major types of pyroclastic material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ree main types of volcanic con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 caldera form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events that may signal a volcanic erupt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olcanic Eruption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fi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elsi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fic rock commonly makes up the oceanic crust, where as felsic and mafic rock commonly make up the continental crust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Eruption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viscosit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or resistance to f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f magma affects the force with which a particular volcano will erupt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ma that contains large amounts of trapped, dissolved gases is more likely to produce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Eruptio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iet Eruption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ic volcanoes commonly form from mafic magma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of mafic magma’s low viscosity, gases can easily escape from mafic magma.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uptions from oceanic volcanoes, such as those in Hawaii, are usually quiet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Eruptio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ava Flow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afic lava cools rapidly, a crust forms on the surface of the flow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lava continues to flow after the crust forms, the crust wrinkles to form a volcanic rock calle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ahoeho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hoehoe forms from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Eruptio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ava Flows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crust deforms rapidly or grows too thick to form wrinkles, the surface breaks into jagged chunks to form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 forms from lava that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 lava’s texture results from the differences in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Eruptio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ava Flows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locky lav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s a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igh viscosity causes the cooled lava at the surface to break into large chunks, while the hot lava underneath continues to flow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Eruption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2760" y="1417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osive Eruption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2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2200" indent="-322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yroclastic materi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220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2200" indent="-322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like the fluid lavas produced by oceanic volcanoes, the felsic lavas of continental volcanoes, such as Mount St. Helens, tend to be cooler and sticki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220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2200" indent="-322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lsic lava also contains large amounts of trapped gases, such as water vapor and carbon dioxid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220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, felsic lava tends to explode and throw        pyroclastic material into the ai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4-02-18T23:23:37Z</dcterms:modified>
  <cp:revision>616</cp:revision>
  <dc:subject/>
  <dc:title>No Slide Title</dc:title>
</cp:coreProperties>
</file>